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14261"/>
        <c:axId val="30285026"/>
      </c:barChart>
      <c:catAx>
        <c:axId val="49914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85026"/>
        <c:crosses val="autoZero"/>
        <c:auto val="1"/>
        <c:lblAlgn val="ctr"/>
        <c:lblOffset val="100"/>
        <c:noMultiLvlLbl val="0"/>
      </c:catAx>
      <c:valAx>
        <c:axId val="30285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14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BD8-F06D-48EF-B1B4-FB69AE01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81B-23EB-4270-8E26-E109B577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642-B12D-439E-87EC-BC74FA8F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62E0-81B0-4146-8DE7-10789F94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388-C9AB-45EE-AA76-49A69242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B21-52BB-4A42-A819-F78E6E5B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8D9-5F0B-455A-A449-9955AC89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D50-1F01-482B-BF1E-EDBFCDEB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636-F3B7-48B2-B23E-2753A14B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97F7-0FA8-42FB-9784-27459275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8493-EFB2-42F2-8243-5F138294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71E-5136-440B-BDCE-28AF964C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A8CDE-B463-4328-9567-A50775AC53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